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jpeg" ContentType="image/jpeg"/>
  <Override PartName="/ppt/media/image8.jpeg" ContentType="image/jpeg"/>
  <Override PartName="/ppt/media/image22.png" ContentType="image/png"/>
  <Override PartName="/ppt/media/image19.jpeg" ContentType="image/jpeg"/>
  <Override PartName="/ppt/media/image1.jpeg" ContentType="image/jpeg"/>
  <Override PartName="/ppt/media/image21.gif" ContentType="image/gif"/>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42F77-FEBC-4492-A7C9-2831DA27A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86CB-F30F-4131-9DB2-A078B275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CFA19-E373-4E19-8ED8-885EA5E8A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D50FF-05B1-4882-8806-A89267BAE9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E78DCD-F13F-4132-9FC2-E133343B19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C9532B-2D2A-446F-AFF4-5209D3328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EE9B9-30F5-4610-8144-7FCA62452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0B68B8-1CB2-4367-9C10-602F0B2F28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2A0E4-386E-4C4A-8759-CE9C5DD0A1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6DEF83-3F32-42C9-8730-BE89A8212C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825F3F-4CE9-4ED0-8ED8-3B07C7A0AF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67B4F9-2240-4C5A-8713-CA486289F6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02B14-8AF3-4D52-8ADE-6B26B6D24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605597-8231-413D-9482-A2E6F8B5DD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F2163A-E896-4482-AE8A-0C2E6D1A5A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F8DD42-01DE-4F7B-B2E5-9E00AB0280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E072D3-125E-4348-8811-BB2C4F9892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212E7C-FB39-402F-8E63-BD38271510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B4889-4EBC-4866-A3C3-A98BA77FB0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E9B3EF-3667-49ED-8869-3190B54BAA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2525D6-9399-4FFC-B641-BB12B8BE14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95FC9D-DFAA-4C4E-8722-69676B8B43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7BC4AB-9BED-42D6-914C-4C86670701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6CB7C-FB42-421F-9112-8957C40D0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55B248-B5AC-4B20-AC90-8ECF313B51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FBB92F-4926-47DF-A38B-A738F4DBBB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9608B0-EA1C-46D4-AA82-6CB2C49B25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F4F6C0-C738-4351-ADB7-D92E291AAA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BF7201-22CD-4379-8755-77A300D800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BA10D6-A9A0-459B-9340-3FFF108904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42D3A8-F953-48BA-ABD8-D51A122AE3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3483B6-7378-4B6E-B1D7-C63F19AAA5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EFA340-B259-4D41-8ED2-92C04180D9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711CEA-68BD-4DB4-9EFF-98FB2B874F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EB521-73A1-452F-964E-AC90000BC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D7A6AA-AA70-407B-ABD6-94AB345FE3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3C1286-BFC1-4FB4-9930-C9B24980CC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DFDC14-BFCB-49AD-86DB-171A4E33B0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6F7710-797F-4620-90ED-87AAA644E6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1D9481-2F7A-4484-A5CE-8ACAF30389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EF77B5-D6A4-4C13-B573-72B8E4CC92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009841-B866-4845-B9B8-FF39F50338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1AF036-EADE-474D-B653-C10EBB2D42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889849-809D-428F-B601-3C2C9A1563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C489AD-9C38-41D2-8CAD-D4B7ACC041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FD68E-EA41-4FF7-8908-81A3EB583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A3B95B-E28F-4A8C-BC89-2DEE9C7773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06A172-8CE1-4068-B562-1AC4BD89C8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7413C8-E6C0-4FCD-9C20-A3A7D67836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11AF358-3F5B-45C5-9A0C-AB0D5BFEA2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063EAA3-7785-4956-B095-3C5B8D7A36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E9705-BB92-47D8-ACA6-08359F233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1921B-57E9-4AA4-9F5D-6E225C0DC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38552-4331-4B3D-9B2F-F1426502C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68A8A-6F84-42DB-8CB4-7938C1FAA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2C61D-6C73-4056-8849-E50046372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B7EB-060A-43A0-AE78-2EFC29C3A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9EB07-FDD1-42A6-B483-21C23214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DFEFB-9F89-433A-A660-F2BA4208A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18D12-2087-414D-B9E1-495F34FF3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C3568-6C95-4C01-B7B8-608001F40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A9088-A913-48F8-AECF-DDF854DA8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33ECE2-532D-42B8-A64C-91FAA872D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F8682-6240-4794-8758-B77141086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2CBB3-3AE5-4CAB-A60E-BAC2D27D4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820C3-CA8F-498D-89CB-70731A386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C25A4-860D-49C7-BF60-4FE442EDF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9285-C2E8-466B-91E0-1C9875C6B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4C510-C7D1-4372-A391-C64A79CE04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1781F-9F29-4E72-B733-B1521E4F8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644A8-F2D5-496D-859D-421103B25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9D88F-BB8B-4DD8-8C15-C1FAB0AD9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0B2EF-47BA-40B7-9D93-556FC1752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9F0C9A-1D0C-4203-86EC-CCEFB6D8CE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515C5-C72A-4A26-A8B1-7EEB3ECD49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C95D75-2AB0-453C-87A7-06DEA69C73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81436-2434-44D4-8F36-2ED853B59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B6E06-4680-4010-AEB3-805992F0A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A9B1-27AD-43D7-96F8-4A4A7FE1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B9154-9323-415B-B30B-D5331A73D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7799D-DC88-4C7F-93AA-514D059A5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2DA99-6EA4-4667-B09F-D48EA51A6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E586E-0FBC-4125-867D-C92042ED4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885A0-F187-4D2A-89C9-12944F371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4E994-7869-4AA5-8D59-713678BCF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E5BA5-90C7-4F96-9715-A1E498314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B71E8-1A0D-4135-8608-6626D5523E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37DF5-E17A-451F-9DD9-08F8386EC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E73908-A220-43AE-9036-D8CEA5CC8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EEA3E-8CF5-4665-852D-1C6942FE5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9DE45-9310-4D0F-8336-EC9C1F2DC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5B2B0-B836-405A-A9DF-1AB804021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2C4DD3-9564-4F73-97DC-1636151EA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EAFD3-B9AA-42D4-9ABD-C16BC72CB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325DC-0507-48F8-A3CE-C54748BCA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1D82B-6D8A-4856-9CB8-93D9638A7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9C096-AD44-4C59-BEC7-BAB3E3C9B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6B086-DBE9-4F04-8BD8-482257C57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D5648-259C-4B0D-AC2E-B5F66A020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306600-B62C-48F3-9FDF-4AFE4DEBBC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EB445-E440-43CC-BE67-72A1AAFD0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35403D-2418-499A-BEF5-2AFE370FD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444F8F-AB96-44FA-82B8-F1A4B60EEB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A7658-607B-4EDA-86F4-862463A05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AE7F1-E9F5-43E1-956F-A50E9E7CA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09CDE-462B-46FE-8BFC-A9B61D15C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F15E45-0606-48FF-99F1-B8670A02D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9C369-7146-4B20-B23F-75CB313A1D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46288-BEF8-4F13-B7A0-97CCCD9F9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5180D-746E-4E1D-BBBD-D251FA8C7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C0FAE4-DBE1-4A3A-AC52-B49B17CBD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D800-16A9-4E14-A81D-678F5806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896FE-D1D1-47D7-AD97-F69F7B7C4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DD26DE-004F-495C-BA1F-792B9C59BF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487F47-717B-4330-AB62-F73AF16B4F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43D0CD-C1EF-4637-8737-B426FC6D0D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EB938-129A-414F-B3BF-70E11EBB7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BFB81-31F3-4948-9929-2D317A2AC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79EB4-CEBA-4185-9C9A-F6AA7C647E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3D0C02-5E9D-4652-956A-CACBE93174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37E5C6-1E4A-45B6-90E0-6B6907452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54D96-E79C-4231-B3DB-AAB399120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90EF-BC14-42ED-9CDA-DD3D4F48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97D73C-6F52-4270-AE84-7D6CE836F6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DAE8A-8E06-462F-AFFC-294642C53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A4DD92-FEDD-477C-8FE8-0AE2F93D5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492CFF-B0C0-40A1-ABBB-55CC009DF7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6F759A-357C-447A-9819-2CA315FB3C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61A426-B69F-4453-9C5A-D33129A14E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BE3116-2AD8-47B9-A095-E25D87BC13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6198DE-6393-454D-8DCB-64164F31F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EDAE48-90CD-482F-8201-93DF3C3816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6E76B-E412-49C6-8EB4-C750E7253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9B39-0255-4DDE-8F72-2AEE1A863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E33A69-FE00-4455-9DAD-ABF96B1C0F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FA678-C374-4D72-A4D4-FBD77AB71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60725-F127-4DB4-82EB-257B82045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9CEBE-9C9E-4738-92E4-7902289CB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F7D86-395F-4EF8-893D-6BA0913E3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D40B17-54B9-49D7-B3FF-BA50526AAF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A7E107-4487-4455-AE53-A946061086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A7EF4F-EA3F-45E3-A065-8F1F20A9D7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03B60-89E2-4AE0-8B1B-DBD0E52D8A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FAC897-459E-4A49-B271-2B6A832136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3425-8B50-479E-A500-4453611ED6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80"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ABAF-6ED6-4F2D-B713-D742743E8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77BD-4B00-48B6-960D-EF80A8A7A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6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6E69-4017-4121-95BB-5C251473C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A80C-E9F0-4214-BCF7-C12C99D83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4BF3-92D9-4B57-8748-5297E7872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8"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3800-5A13-45CB-BFCD-1C3C41E45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0"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ACAD-25F1-4736-9197-0FA702AF9C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2"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5A02-6A1E-4320-8DB0-483F46688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5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CE91-BB84-4809-B8A8-FF45BC4C1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9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4575-E1EB-436A-ADA6-66890F217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2"/>
          <p:cNvSpPr/>
          <p:nvPr/>
        </p:nvSpPr>
        <p:spPr>
          <a:xfrm>
            <a:off x="136440" y="136440"/>
            <a:ext cx="8866440" cy="65818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38"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74E3-C6B8-4D1A-BD2F-7CA615031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Прямоугольник 1"/>
          <p:cNvSpPr/>
          <p:nvPr/>
        </p:nvSpPr>
        <p:spPr>
          <a:xfrm>
            <a:off x="755640" y="1268280"/>
            <a:ext cx="7632720" cy="2441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Times New Roman"/>
                <a:ea typeface="Calibri"/>
              </a:rPr>
              <a:t>Економічне виховання дітей раннього віку</a:t>
            </a:r>
            <a:endParaRPr b="0" lang="en-US" sz="28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Times New Roman"/>
                <a:ea typeface="Calibri"/>
              </a:rPr>
              <a:t>Потреба в одязі.</a:t>
            </a:r>
            <a:endParaRPr b="0" lang="en-US" sz="4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Times New Roman"/>
                <a:ea typeface="Calibri"/>
              </a:rPr>
              <a:t>Чому треба берегти одяг?</a:t>
            </a:r>
            <a:endParaRPr b="0" lang="en-US" sz="4400" spc="-1" strike="noStrike">
              <a:solidFill>
                <a:srgbClr val="000000"/>
              </a:solidFill>
              <a:latin typeface="Trebuchet MS"/>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 </a:t>
            </a:r>
            <a:endParaRPr b="0" lang="en-US" sz="1800" spc="-1" strike="noStrike">
              <a:solidFill>
                <a:srgbClr val="000000"/>
              </a:solidFill>
              <a:latin typeface="Trebuchet MS"/>
            </a:endParaRPr>
          </a:p>
        </p:txBody>
      </p:sp>
      <p:pic>
        <p:nvPicPr>
          <p:cNvPr id="505" name="Picture 2" descr="G:\МОИ ПАПКИ\ДОКУМЕНТИ\как мама сказала\анимашки ЕСТЬ\книги\книга.jpeg"/>
          <p:cNvPicPr/>
          <p:nvPr/>
        </p:nvPicPr>
        <p:blipFill>
          <a:blip r:embed="rId1"/>
          <a:stretch/>
        </p:blipFill>
        <p:spPr>
          <a:xfrm>
            <a:off x="5987880" y="4005360"/>
            <a:ext cx="2767320" cy="2530440"/>
          </a:xfrm>
          <a:prstGeom prst="rect">
            <a:avLst/>
          </a:prstGeom>
          <a:ln w="0">
            <a:noFill/>
          </a:ln>
        </p:spPr>
      </p:pic>
      <p:pic>
        <p:nvPicPr>
          <p:cNvPr id="506" name="Прямоугольник 2" descr=""/>
          <p:cNvPicPr/>
          <p:nvPr/>
        </p:nvPicPr>
        <p:blipFill>
          <a:blip r:embed="rId2"/>
          <a:stretch/>
        </p:blipFill>
        <p:spPr>
          <a:xfrm>
            <a:off x="847800" y="4711680"/>
            <a:ext cx="3078000" cy="142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9400" y="115920"/>
            <a:ext cx="888660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Робота з художніми творами</a:t>
            </a:r>
            <a:endParaRPr b="0" lang="en-US" sz="2400" spc="-1" strike="noStrike">
              <a:solidFill>
                <a:srgbClr val="000000"/>
              </a:solidFill>
              <a:latin typeface="Trebuchet MS"/>
            </a:endParaRPr>
          </a:p>
          <a:p>
            <a:pPr indent="4492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Як ви вважаєте, діти, ваш одяг завжди буває охайним та гарним? Якщо ні, то чому? (Відповіді дітей.)</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На жаль, є діти, які не бережуть свої речі. Послухайте вірш про таку дівчинку Ганнулю.</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Грицько Бойк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Бруднуля </a:t>
            </a:r>
            <a:r>
              <a:rPr b="0" lang="ru-RU" sz="2400" spc="-1" strike="noStrike">
                <a:solidFill>
                  <a:srgbClr val="25691a"/>
                </a:solidFill>
                <a:latin typeface="Times New Roman"/>
                <a:ea typeface="Calibri"/>
              </a:rPr>
              <a:t>(</a:t>
            </a:r>
            <a:r>
              <a:rPr b="0" lang="uk-UA" sz="2400" spc="-1" strike="noStrike">
                <a:solidFill>
                  <a:srgbClr val="25691a"/>
                </a:solidFill>
                <a:latin typeface="Times New Roman"/>
                <a:ea typeface="Calibri"/>
              </a:rPr>
              <a:t>Уривок)</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Спать вона лягала</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Кинула під ліжк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Не помила ніжки.</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Отака Ганнуля,</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Плаття і панчішки</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Дівчинка-бруднуля.</a:t>
            </a:r>
            <a:endParaRPr b="0" lang="en-US" sz="2400" spc="-1" strike="noStrike">
              <a:solidFill>
                <a:srgbClr val="000000"/>
              </a:solidFill>
              <a:latin typeface="Trebuchet MS"/>
            </a:endParaRPr>
          </a:p>
          <a:p>
            <a:pPr indent="4492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Чому дівчинку називають бруднулею? Що вона зробила з платтячком і панчишками? Чи можна  так  робити  зі  своїми  речам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Спонукаю  дітей до висновку про необхідність берегти свої речі, бути охайними.)</a:t>
            </a:r>
            <a:endParaRPr b="0" lang="en-US" sz="2400" spc="-1" strike="noStrike">
              <a:solidFill>
                <a:srgbClr val="000000"/>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Прямоугольник 1"/>
          <p:cNvSpPr/>
          <p:nvPr/>
        </p:nvSpPr>
        <p:spPr>
          <a:xfrm>
            <a:off x="119160" y="189000"/>
            <a:ext cx="8640720" cy="2196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r>
              <a:rPr b="1" lang="uk-UA" sz="2400" spc="-1" strike="noStrike">
                <a:solidFill>
                  <a:srgbClr val="25691a"/>
                </a:solidFill>
                <a:latin typeface="Times New Roman"/>
                <a:ea typeface="Calibri"/>
              </a:rPr>
              <a:t>Розмова-бесіда «Що треба зробити, якщо...»</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а ситуацією спонукаю дітей розповісти, що треба робит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якщо одяг забруднився;</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відірвався ґудзик;</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розірвалася кишеня тощо.</a:t>
            </a:r>
            <a:endParaRPr b="0" lang="en-US" sz="2400" spc="-1" strike="noStrike">
              <a:solidFill>
                <a:srgbClr val="000000"/>
              </a:solidFill>
              <a:latin typeface="Trebuchet MS"/>
            </a:endParaRPr>
          </a:p>
        </p:txBody>
      </p:sp>
      <p:pic>
        <p:nvPicPr>
          <p:cNvPr id="530" name="Picture 2" descr="C:\Users\viktoriashpv\Desktop\МЕТОДОБ'ЄДНАННЯ\МРО 10.11.16 народознавство\09.02.17\IMG_2690.JPG"/>
          <p:cNvPicPr/>
          <p:nvPr/>
        </p:nvPicPr>
        <p:blipFill>
          <a:blip r:embed="rId1"/>
          <a:srcRect l="5453" t="0" r="10246" b="0"/>
          <a:stretch/>
        </p:blipFill>
        <p:spPr>
          <a:xfrm>
            <a:off x="4867200" y="2657520"/>
            <a:ext cx="4106880" cy="3654360"/>
          </a:xfrm>
          <a:prstGeom prst="rect">
            <a:avLst/>
          </a:prstGeom>
          <a:ln w="9360">
            <a:solidFill>
              <a:srgbClr val="318c23"/>
            </a:solidFill>
            <a:miter/>
          </a:ln>
        </p:spPr>
      </p:pic>
      <p:sp>
        <p:nvSpPr>
          <p:cNvPr id="531" name="Прямоугольник 2"/>
          <p:cNvSpPr/>
          <p:nvPr/>
        </p:nvSpPr>
        <p:spPr>
          <a:xfrm>
            <a:off x="179280" y="2527200"/>
            <a:ext cx="4572000" cy="3878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31489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31489f"/>
                </a:solidFill>
                <a:latin typeface="Times New Roman"/>
                <a:ea typeface="Calibri"/>
              </a:rPr>
              <a:t> </a:t>
            </a:r>
            <a:r>
              <a:rPr b="0" lang="uk-UA" sz="2400" spc="-1" strike="noStrike">
                <a:solidFill>
                  <a:srgbClr val="25691a"/>
                </a:solidFill>
                <a:latin typeface="Times New Roman"/>
                <a:ea typeface="Calibri"/>
              </a:rPr>
              <a:t>Так, діти, якщо ви будете уважними до своїх речей, то ваш одяг завжди  буде  охайним  і  чистим.  Ви  зекономити і воду, і пральний порошок. І у мами буде вільний час для спілкування з вами. Ви ж маміни помічники?!</a:t>
            </a:r>
            <a:endParaRPr b="0" lang="en-US" sz="2400" spc="-1" strike="noStrike">
              <a:solidFill>
                <a:srgbClr val="000000"/>
              </a:solidFill>
              <a:latin typeface="Trebuchet MS"/>
            </a:endParaRPr>
          </a:p>
        </p:txBody>
      </p:sp>
      <p:pic>
        <p:nvPicPr>
          <p:cNvPr id="532" name="Detskaya-pesnya_-_Maminy-pomoschniki.mp3" descr=""/>
          <p:cNvPicPr/>
          <p:nvPr/>
        </p:nvPicPr>
        <p:blipFill>
          <a:blip r:embed="rId2"/>
          <a:stretch/>
        </p:blipFill>
        <p:spPr>
          <a:xfrm>
            <a:off x="139680" y="6137280"/>
            <a:ext cx="609480" cy="609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54725"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Прямоугольник 1"/>
          <p:cNvSpPr/>
          <p:nvPr/>
        </p:nvSpPr>
        <p:spPr>
          <a:xfrm>
            <a:off x="0" y="189000"/>
            <a:ext cx="9024840" cy="3457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Скільки сьогодні багато ми з вами дізналися про одяг, взуття. Навчили ляльку правильно відноситися до своїх речей. Оксанка дуже вам вдячна за науку. </a:t>
            </a:r>
            <a:endParaRPr b="0" lang="en-US" sz="2400" spc="-1" strike="noStrike">
              <a:solidFill>
                <a:srgbClr val="000000"/>
              </a:solidFill>
              <a:latin typeface="Trebuchet MS"/>
            </a:endParaRPr>
          </a:p>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Підвожу висновок, що берегти речі означає подовжити термін їхнього використання. Завдяки  цьому,  ми зберігаємо ресурси — матеріали,  з яких зроблені речі, працю людей, електрику, воду тощо. Бережливе ставлення до речей дозволяє родині менше витрачати грошей на новий одяг.</a:t>
            </a:r>
            <a:endParaRPr b="0" lang="en-US" sz="2400" spc="-1" strike="noStrike">
              <a:solidFill>
                <a:srgbClr val="000000"/>
              </a:solidFill>
              <a:latin typeface="Trebuchet MS"/>
            </a:endParaRPr>
          </a:p>
        </p:txBody>
      </p:sp>
      <p:pic>
        <p:nvPicPr>
          <p:cNvPr id="534" name="Picture 2" descr="C:\Users\viktoriashpv\Desktop\МЕТОДОБ'ЄДНАННЯ\МРО 10.11.16 народознавство\09.02.17\IMG_2688.JPG"/>
          <p:cNvPicPr/>
          <p:nvPr/>
        </p:nvPicPr>
        <p:blipFill>
          <a:blip r:embed="rId1"/>
          <a:stretch/>
        </p:blipFill>
        <p:spPr>
          <a:xfrm>
            <a:off x="2484360" y="3571920"/>
            <a:ext cx="4356000" cy="3267000"/>
          </a:xfrm>
          <a:prstGeom prst="rect">
            <a:avLst/>
          </a:prstGeom>
          <a:ln w="9360">
            <a:solidFill>
              <a:srgbClr val="318c23"/>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Прямоугольник 1" descr=""/>
          <p:cNvPicPr/>
          <p:nvPr/>
        </p:nvPicPr>
        <p:blipFill>
          <a:blip r:embed="rId1"/>
          <a:stretch/>
        </p:blipFill>
        <p:spPr>
          <a:xfrm>
            <a:off x="1620720" y="712800"/>
            <a:ext cx="5902560" cy="3494160"/>
          </a:xfrm>
          <a:prstGeom prst="rect">
            <a:avLst/>
          </a:prstGeom>
          <a:ln w="0">
            <a:noFill/>
          </a:ln>
        </p:spPr>
      </p:pic>
      <p:sp>
        <p:nvSpPr>
          <p:cNvPr id="536"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7"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538" name="Picture 9" descr="C:\Users\viktoriashpv\Desktop\карапузы\Deti83.gif"/>
          <p:cNvPicPr/>
          <p:nvPr/>
        </p:nvPicPr>
        <p:blipFill>
          <a:blip r:embed="rId2"/>
          <a:stretch/>
        </p:blipFill>
        <p:spPr>
          <a:xfrm>
            <a:off x="6300720" y="3919680"/>
            <a:ext cx="2063880" cy="2509560"/>
          </a:xfrm>
          <a:prstGeom prst="rect">
            <a:avLst/>
          </a:prstGeom>
          <a:ln w="0">
            <a:noFill/>
          </a:ln>
        </p:spPr>
      </p:pic>
      <p:pic>
        <p:nvPicPr>
          <p:cNvPr id="539" name="Picture 10" descr="C:\Users\viktoriashpv\Desktop\карапузы\16071032.png"/>
          <p:cNvPicPr/>
          <p:nvPr/>
        </p:nvPicPr>
        <p:blipFill>
          <a:blip r:embed="rId3"/>
          <a:stretch/>
        </p:blipFill>
        <p:spPr>
          <a:xfrm>
            <a:off x="1227240" y="3860640"/>
            <a:ext cx="1593720" cy="2627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Прямоугольник 1"/>
          <p:cNvSpPr/>
          <p:nvPr/>
        </p:nvSpPr>
        <p:spPr>
          <a:xfrm>
            <a:off x="611280" y="674640"/>
            <a:ext cx="820872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Мета:</a:t>
            </a:r>
            <a:r>
              <a:rPr b="0"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закріплювати</a:t>
            </a:r>
            <a:r>
              <a:rPr b="0" lang="uk-UA" sz="2400" spc="-1" strike="noStrike">
                <a:solidFill>
                  <a:srgbClr val="25691a"/>
                </a:solidFill>
                <a:latin typeface="Times New Roman"/>
                <a:ea typeface="Calibri"/>
              </a:rPr>
              <a:t> й розширювати уявлення дітей про потреби людини в одязі,</a:t>
            </a:r>
            <a:r>
              <a:rPr b="0" lang="ru-RU"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правила  користування ним;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формувати</a:t>
            </a:r>
            <a:r>
              <a:rPr b="0" lang="uk-UA" sz="2400" spc="-1" strike="noStrike">
                <a:solidFill>
                  <a:srgbClr val="25691a"/>
                </a:solidFill>
                <a:latin typeface="Times New Roman"/>
                <a:ea typeface="Calibri"/>
              </a:rPr>
              <a:t> елементарні навички догляду за одягом;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розвивати</a:t>
            </a:r>
            <a:r>
              <a:rPr b="0" lang="uk-UA" sz="2400" spc="-1" strike="noStrike">
                <a:solidFill>
                  <a:srgbClr val="25691a"/>
                </a:solidFill>
                <a:latin typeface="Times New Roman"/>
                <a:ea typeface="Calibri"/>
              </a:rPr>
              <a:t> увагу, пам'ять , активне мовлення, логічне мислення, вміння робити елементарні висновк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5691a"/>
                </a:solidFill>
                <a:latin typeface="Times New Roman"/>
                <a:ea typeface="Calibri"/>
              </a:rPr>
              <a:t>виховувати</a:t>
            </a:r>
            <a:r>
              <a:rPr b="0" lang="uk-UA" sz="2400" spc="-1" strike="noStrike">
                <a:solidFill>
                  <a:srgbClr val="25691a"/>
                </a:solidFill>
                <a:latin typeface="Times New Roman"/>
                <a:ea typeface="Calibri"/>
              </a:rPr>
              <a:t> в дітей бережливе ставлення до власних речей, звичку до порядку, працелюбність,  охайність.</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Словник: </a:t>
            </a:r>
            <a:r>
              <a:rPr b="0" lang="uk-UA" sz="2400" spc="-1" strike="noStrike">
                <a:solidFill>
                  <a:srgbClr val="25691a"/>
                </a:solidFill>
                <a:latin typeface="Times New Roman"/>
                <a:ea typeface="Calibri"/>
              </a:rPr>
              <a:t> одяг,  гроші,  магазин,  купувати.</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 </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Обладнання: </a:t>
            </a:r>
            <a:r>
              <a:rPr b="0" lang="uk-UA" sz="2400" spc="-1" strike="noStrike">
                <a:solidFill>
                  <a:srgbClr val="25691a"/>
                </a:solidFill>
                <a:latin typeface="Times New Roman"/>
                <a:ea typeface="Calibri"/>
              </a:rPr>
              <a:t>лялька одягнена в зимовий одяг.</a:t>
            </a:r>
            <a:endParaRPr b="0" lang="en-US" sz="24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Прямоугольник 1"/>
          <p:cNvSpPr/>
          <p:nvPr/>
        </p:nvSpPr>
        <p:spPr>
          <a:xfrm>
            <a:off x="4065480" y="112680"/>
            <a:ext cx="489924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Малята, давайте пригадаємо яка зараз пора року (зима). Так, зима, холодно. А щоб не змерзнути,  що ви одягаєте? (перелік речей дітьми). </a:t>
            </a:r>
            <a:endParaRPr b="0" lang="en-US" sz="2800" spc="-1" strike="noStrike">
              <a:solidFill>
                <a:srgbClr val="000000"/>
              </a:solidFill>
              <a:latin typeface="Trebuchet MS"/>
            </a:endParaRPr>
          </a:p>
        </p:txBody>
      </p:sp>
      <p:pic>
        <p:nvPicPr>
          <p:cNvPr id="509" name="Picture 2" descr="C:\Users\viktoriashpv\Desktop\МЕТОДОБ'ЄДНАННЯ\МРО 10.11.16 народознавство\09.02.17\IMG_2652.JPG"/>
          <p:cNvPicPr/>
          <p:nvPr/>
        </p:nvPicPr>
        <p:blipFill>
          <a:blip r:embed="rId1"/>
          <a:stretch/>
        </p:blipFill>
        <p:spPr>
          <a:xfrm>
            <a:off x="4716360" y="3213000"/>
            <a:ext cx="4041720" cy="3030480"/>
          </a:xfrm>
          <a:prstGeom prst="rect">
            <a:avLst/>
          </a:prstGeom>
          <a:ln w="9360">
            <a:solidFill>
              <a:srgbClr val="25691a"/>
            </a:solidFill>
            <a:miter/>
          </a:ln>
        </p:spPr>
      </p:pic>
      <p:pic>
        <p:nvPicPr>
          <p:cNvPr id="510" name="Picture 3" descr="C:\Users\viktoriashpv\Desktop\МЕТОДОБ'ЄДНАННЯ\МРО 10.11.16 народознавство\09.02.17\IMG_2655.JPG"/>
          <p:cNvPicPr/>
          <p:nvPr/>
        </p:nvPicPr>
        <p:blipFill>
          <a:blip r:embed="rId2"/>
          <a:stretch/>
        </p:blipFill>
        <p:spPr>
          <a:xfrm>
            <a:off x="341280" y="981000"/>
            <a:ext cx="3724200" cy="4965840"/>
          </a:xfrm>
          <a:prstGeom prst="rect">
            <a:avLst/>
          </a:prstGeom>
          <a:ln w="9360">
            <a:solidFill>
              <a:srgbClr val="25691a"/>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Users\viktoriashpv\Desktop\МЕТОДОБ'ЄДНАННЯ\МРО 10.11.16 народознавство\09.02.17\IMG_2656.JPG"/>
          <p:cNvPicPr/>
          <p:nvPr/>
        </p:nvPicPr>
        <p:blipFill>
          <a:blip r:embed="rId1"/>
          <a:stretch/>
        </p:blipFill>
        <p:spPr>
          <a:xfrm>
            <a:off x="3059280" y="2425680"/>
            <a:ext cx="5653080" cy="4238640"/>
          </a:xfrm>
          <a:prstGeom prst="rect">
            <a:avLst/>
          </a:prstGeom>
          <a:ln w="28440">
            <a:solidFill>
              <a:srgbClr val="318c23"/>
            </a:solidFill>
            <a:miter/>
          </a:ln>
        </p:spPr>
      </p:pic>
      <p:sp>
        <p:nvSpPr>
          <p:cNvPr id="512" name="Прямоугольник 1"/>
          <p:cNvSpPr/>
          <p:nvPr/>
        </p:nvSpPr>
        <p:spPr>
          <a:xfrm>
            <a:off x="108000" y="130320"/>
            <a:ext cx="878508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Я чую хтось стукає у двері. Мабуть в гості до нас хтось поспішає (прийшла лялька у зимовому одязі).</a:t>
            </a:r>
            <a:r>
              <a:rPr b="0" lang="ru-RU" sz="2800" spc="-1" strike="noStrike">
                <a:solidFill>
                  <a:srgbClr val="25691a"/>
                </a:solidFill>
                <a:latin typeface="Times New Roman"/>
                <a:ea typeface="Calibri"/>
              </a:rPr>
              <a:t> Діти знайомляться з лялькою, спонукаю малят називати своє ім</a:t>
            </a:r>
            <a:r>
              <a:rPr b="0" lang="en-US" sz="2800" spc="-1" strike="noStrike">
                <a:solidFill>
                  <a:srgbClr val="25691a"/>
                </a:solidFill>
                <a:latin typeface="Times New Roman"/>
                <a:ea typeface="Calibri"/>
              </a:rPr>
              <a:t>’</a:t>
            </a:r>
            <a:r>
              <a:rPr b="0" lang="ru-RU" sz="2800" spc="-1" strike="noStrike">
                <a:solidFill>
                  <a:srgbClr val="25691a"/>
                </a:solidFill>
                <a:latin typeface="Times New Roman"/>
                <a:ea typeface="Calibri"/>
              </a:rPr>
              <a:t>я. Пропоную дітям допомогти ляльці  роздягнутися. </a:t>
            </a:r>
            <a:endParaRPr b="0" lang="en-US" sz="2800" spc="-1" strike="noStrike">
              <a:solidFill>
                <a:srgbClr val="000000"/>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Прямоугольник 1"/>
          <p:cNvSpPr/>
          <p:nvPr/>
        </p:nvSpPr>
        <p:spPr>
          <a:xfrm>
            <a:off x="395280" y="112680"/>
            <a:ext cx="8569440" cy="1074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Що спочатку треба знімати? (куртку). А потім? (шапку, кофту, штани, зняти чоботи і взути капці). </a:t>
            </a:r>
            <a:endParaRPr b="0" lang="en-US" sz="2800" spc="-1" strike="noStrike">
              <a:solidFill>
                <a:srgbClr val="000000"/>
              </a:solidFill>
              <a:latin typeface="Trebuchet MS"/>
            </a:endParaRPr>
          </a:p>
        </p:txBody>
      </p:sp>
      <p:pic>
        <p:nvPicPr>
          <p:cNvPr id="514" name="Picture 3" descr="C:\Users\viktoriashpv\Desktop\МЕТОДОБ'ЄДНАННЯ\МРО 10.11.16 народознавство\09.02.17\IMG_2660.JPG"/>
          <p:cNvPicPr/>
          <p:nvPr/>
        </p:nvPicPr>
        <p:blipFill>
          <a:blip r:embed="rId1"/>
          <a:stretch/>
        </p:blipFill>
        <p:spPr>
          <a:xfrm>
            <a:off x="3233880" y="2852640"/>
            <a:ext cx="2835000" cy="3780000"/>
          </a:xfrm>
          <a:prstGeom prst="rect">
            <a:avLst/>
          </a:prstGeom>
          <a:ln w="9360">
            <a:solidFill>
              <a:srgbClr val="318c23"/>
            </a:solidFill>
            <a:miter/>
          </a:ln>
        </p:spPr>
      </p:pic>
      <p:pic>
        <p:nvPicPr>
          <p:cNvPr id="515" name="Picture 2" descr="C:\Users\viktoriashpv\Desktop\МЕТОДОБ'ЄДНАННЯ\МРО 10.11.16 народознавство\09.02.17\IMG_2657.JPG"/>
          <p:cNvPicPr/>
          <p:nvPr/>
        </p:nvPicPr>
        <p:blipFill>
          <a:blip r:embed="rId2"/>
          <a:stretch/>
        </p:blipFill>
        <p:spPr>
          <a:xfrm>
            <a:off x="250920" y="1413000"/>
            <a:ext cx="3612960" cy="2708280"/>
          </a:xfrm>
          <a:prstGeom prst="rect">
            <a:avLst/>
          </a:prstGeom>
          <a:ln w="9360">
            <a:solidFill>
              <a:srgbClr val="318c23"/>
            </a:solidFill>
            <a:miter/>
          </a:ln>
        </p:spPr>
      </p:pic>
      <p:pic>
        <p:nvPicPr>
          <p:cNvPr id="516" name="Picture 4" descr="C:\Users\viktoriashpv\Desktop\МЕТОДОБ'ЄДНАННЯ\МРО 10.11.16 народознавство\09.02.17\IMG_2662.JPG"/>
          <p:cNvPicPr/>
          <p:nvPr/>
        </p:nvPicPr>
        <p:blipFill>
          <a:blip r:embed="rId3"/>
          <a:stretch/>
        </p:blipFill>
        <p:spPr>
          <a:xfrm>
            <a:off x="6129360" y="1413000"/>
            <a:ext cx="2835360" cy="3779640"/>
          </a:xfrm>
          <a:prstGeom prst="rect">
            <a:avLst/>
          </a:prstGeom>
          <a:ln w="9360">
            <a:solidFill>
              <a:srgbClr val="318c23"/>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5" descr="C:\Users\viktoriashpv\Desktop\МЕТОДОБ'ЄДНАННЯ\МРО 10.11.16 народознавство\09.02.17\IMG_2665.JPG"/>
          <p:cNvPicPr/>
          <p:nvPr/>
        </p:nvPicPr>
        <p:blipFill>
          <a:blip r:embed="rId1"/>
          <a:stretch/>
        </p:blipFill>
        <p:spPr>
          <a:xfrm>
            <a:off x="179280" y="1782720"/>
            <a:ext cx="2835360" cy="3780000"/>
          </a:xfrm>
          <a:prstGeom prst="rect">
            <a:avLst/>
          </a:prstGeom>
          <a:ln w="9360">
            <a:solidFill>
              <a:srgbClr val="318c23"/>
            </a:solidFill>
            <a:miter/>
          </a:ln>
        </p:spPr>
      </p:pic>
      <p:pic>
        <p:nvPicPr>
          <p:cNvPr id="518" name="Picture 6" descr="C:\Users\viktoriashpv\Desktop\МЕТОДОБ'ЄДНАННЯ\МРО 10.11.16 народознавство\09.02.17\IMG_2666.JPG"/>
          <p:cNvPicPr/>
          <p:nvPr/>
        </p:nvPicPr>
        <p:blipFill>
          <a:blip r:embed="rId2"/>
          <a:stretch/>
        </p:blipFill>
        <p:spPr>
          <a:xfrm>
            <a:off x="3171960" y="2814480"/>
            <a:ext cx="2833560" cy="3780000"/>
          </a:xfrm>
          <a:prstGeom prst="rect">
            <a:avLst/>
          </a:prstGeom>
          <a:ln w="9360">
            <a:solidFill>
              <a:srgbClr val="318c23"/>
            </a:solidFill>
            <a:miter/>
          </a:ln>
        </p:spPr>
      </p:pic>
      <p:sp>
        <p:nvSpPr>
          <p:cNvPr id="519" name="Прямоугольник 4"/>
          <p:cNvSpPr/>
          <p:nvPr/>
        </p:nvSpPr>
        <p:spPr>
          <a:xfrm>
            <a:off x="179280" y="189000"/>
            <a:ext cx="88185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Діти, по черзі, знімають речі з ляльки. Звертаю увагу на те, як діти складають одяг, запитую чому саме треба складати одяг, а не кидати як заманеться.</a:t>
            </a:r>
            <a:endParaRPr b="0" lang="en-US" sz="2800" spc="-1" strike="noStrike">
              <a:solidFill>
                <a:srgbClr val="000000"/>
              </a:solidFill>
              <a:latin typeface="Trebuchet MS"/>
            </a:endParaRPr>
          </a:p>
        </p:txBody>
      </p:sp>
      <p:pic>
        <p:nvPicPr>
          <p:cNvPr id="520" name="Picture 2" descr="C:\Users\viktoriashpv\Desktop\МЕТОДОБ'ЄДНАННЯ\МРО 10.11.16 народознавство\09.02.17\IMG_2668.JPG"/>
          <p:cNvPicPr/>
          <p:nvPr/>
        </p:nvPicPr>
        <p:blipFill>
          <a:blip r:embed="rId3"/>
          <a:stretch/>
        </p:blipFill>
        <p:spPr>
          <a:xfrm>
            <a:off x="6162840" y="1773360"/>
            <a:ext cx="2835000" cy="3779640"/>
          </a:xfrm>
          <a:prstGeom prst="rect">
            <a:avLst/>
          </a:prstGeom>
          <a:ln w="9360">
            <a:solidFill>
              <a:srgbClr val="318c23"/>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7" descr="C:\Users\viktoriashpv\Desktop\МЕТОДОБ'ЄДНАННЯ\МРО 10.11.16 народознавство\09.02.17\IMG_2671.JPG"/>
          <p:cNvPicPr/>
          <p:nvPr/>
        </p:nvPicPr>
        <p:blipFill>
          <a:blip r:embed="rId1"/>
          <a:srcRect l="4436" t="0" r="6732" b="9855"/>
          <a:stretch/>
        </p:blipFill>
        <p:spPr>
          <a:xfrm>
            <a:off x="1900080" y="2681280"/>
            <a:ext cx="5316840" cy="4046400"/>
          </a:xfrm>
          <a:prstGeom prst="rect">
            <a:avLst/>
          </a:prstGeom>
          <a:ln w="9360">
            <a:solidFill>
              <a:srgbClr val="318c23"/>
            </a:solidFill>
            <a:miter/>
          </a:ln>
        </p:spPr>
      </p:pic>
      <p:sp>
        <p:nvSpPr>
          <p:cNvPr id="522" name="Прямоугольник 2"/>
          <p:cNvSpPr/>
          <p:nvPr/>
        </p:nvSpPr>
        <p:spPr>
          <a:xfrm>
            <a:off x="0" y="115920"/>
            <a:ext cx="9144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buClr>
                <a:srgbClr val="25691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25691a"/>
                </a:solidFill>
                <a:latin typeface="Times New Roman"/>
                <a:ea typeface="Calibri"/>
              </a:rPr>
              <a:t>Дітки, розкажіть будь ласка Оксані,  куди ви складаєте свої речі, коли приходите до дитячого садочка? (відповідь дітей). Вірно до шафи. Чи можна, щоб одяг валявся на підлозі? (ні). Чому? (судження дітей). Звісно, речі стануть брудними, їх доведеться прати. </a:t>
            </a:r>
            <a:endParaRPr b="0" lang="en-US" sz="28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Прямоугольник 1"/>
          <p:cNvSpPr/>
          <p:nvPr/>
        </p:nvSpPr>
        <p:spPr>
          <a:xfrm>
            <a:off x="0" y="36360"/>
            <a:ext cx="9036000" cy="345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Дидактична  гра  «Одягни  ведмедика»</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вертаю  увагу  дітей  на  маленьких ведмежаток, які розкидали свій одяг і ніяк не можуть знайти його. В них залишився лише кашкетик,  треба  за його  кольором добрати для ведмежаток футболку й шорти. Розглядуємо  ведмедиків,  з’ясовуємо  колір  їх  одягу.  На  столах  розкладений одяг  для  кожного  ведмедика,  дітям  необхідно  визначитися  з  кольором одягу  для свого  ведмедика  й  одягти  його.</a:t>
            </a:r>
            <a:endParaRPr b="0" lang="en-US" sz="2400" spc="-1" strike="noStrike">
              <a:solidFill>
                <a:srgbClr val="000000"/>
              </a:solidFill>
              <a:latin typeface="Trebuchet MS"/>
            </a:endParaRPr>
          </a:p>
        </p:txBody>
      </p:sp>
      <p:pic>
        <p:nvPicPr>
          <p:cNvPr id="524" name="Picture 2" descr="C:\Users\viktoriashpv\Desktop\МЕТОДОБ'ЄДНАННЯ\МРО 10.11.16 народознавство\09.02.17\IMG_2680.JPG"/>
          <p:cNvPicPr/>
          <p:nvPr/>
        </p:nvPicPr>
        <p:blipFill>
          <a:blip r:embed="rId1"/>
          <a:srcRect l="0" t="0" r="0" b="8105"/>
          <a:stretch/>
        </p:blipFill>
        <p:spPr>
          <a:xfrm>
            <a:off x="2441520" y="3500280"/>
            <a:ext cx="4734000" cy="3262320"/>
          </a:xfrm>
          <a:prstGeom prst="rect">
            <a:avLst/>
          </a:prstGeom>
          <a:ln w="9360">
            <a:solidFill>
              <a:srgbClr val="25691a"/>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Прямоугольник 1"/>
          <p:cNvSpPr/>
          <p:nvPr/>
        </p:nvSpPr>
        <p:spPr>
          <a:xfrm>
            <a:off x="23760" y="115920"/>
            <a:ext cx="8940960" cy="3037320"/>
          </a:xfrm>
          <a:prstGeom prst="rect">
            <a:avLst/>
          </a:prstGeom>
          <a:noFill/>
          <a:ln w="0">
            <a:noFill/>
          </a:ln>
        </p:spPr>
        <p:style>
          <a:lnRef idx="0"/>
          <a:fillRef idx="0"/>
          <a:effectRef idx="0"/>
          <a:fontRef idx="minor"/>
        </p:style>
        <p:txBody>
          <a:bodyPr lIns="90000" rIns="90000" tIns="46800" bIns="46800" anchor="t">
            <a:sp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Одяг, взуття — це товар, а товар продають і купують за грош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Запитання до дітей:</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Де продаються реч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Чи купували ви їх разом із батьками?</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А де ж батьки беруть гроші?</a:t>
            </a:r>
            <a:endParaRPr b="0" lang="en-US" sz="2400" spc="-1" strike="noStrike">
              <a:solidFill>
                <a:srgbClr val="000000"/>
              </a:solidFill>
              <a:latin typeface="Trebuchet MS"/>
            </a:endParaRPr>
          </a:p>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a:t>
            </a:r>
            <a:r>
              <a:rPr b="0" lang="uk-UA" sz="2400" spc="-1" strike="noStrike">
                <a:solidFill>
                  <a:srgbClr val="25691a"/>
                </a:solidFill>
                <a:latin typeface="Times New Roman"/>
                <a:ea typeface="Calibri"/>
              </a:rPr>
              <a:t>	</a:t>
            </a:r>
            <a:r>
              <a:rPr b="0" lang="uk-UA" sz="2400" spc="-1" strike="noStrike">
                <a:solidFill>
                  <a:srgbClr val="25691a"/>
                </a:solidFill>
                <a:latin typeface="Times New Roman"/>
                <a:ea typeface="Calibri"/>
              </a:rPr>
              <a:t>Що ще купують в магазині?</a:t>
            </a:r>
            <a:endParaRPr b="0" lang="en-US" sz="2400" spc="-1" strike="noStrike">
              <a:solidFill>
                <a:srgbClr val="000000"/>
              </a:solidFill>
              <a:latin typeface="Trebuchet MS"/>
            </a:endParaRPr>
          </a:p>
        </p:txBody>
      </p:sp>
      <p:pic>
        <p:nvPicPr>
          <p:cNvPr id="526" name="Picture 2" descr="C:\Users\viktoriashpv\Desktop\МЕТОДОБ'ЄДНАННЯ\МРО 10.11.16 народознавство\09.02.17\IMG_2682.JPG"/>
          <p:cNvPicPr/>
          <p:nvPr/>
        </p:nvPicPr>
        <p:blipFill>
          <a:blip r:embed="rId1"/>
          <a:stretch/>
        </p:blipFill>
        <p:spPr>
          <a:xfrm>
            <a:off x="5508720" y="2278080"/>
            <a:ext cx="3327480" cy="4437000"/>
          </a:xfrm>
          <a:prstGeom prst="rect">
            <a:avLst/>
          </a:prstGeom>
          <a:ln w="9360">
            <a:solidFill>
              <a:srgbClr val="318c23"/>
            </a:solidFill>
            <a:miter/>
          </a:ln>
        </p:spPr>
      </p:pic>
      <p:sp>
        <p:nvSpPr>
          <p:cNvPr id="527" name="Прямоугольник 2"/>
          <p:cNvSpPr/>
          <p:nvPr/>
        </p:nvSpPr>
        <p:spPr>
          <a:xfrm>
            <a:off x="39600" y="3429000"/>
            <a:ext cx="5486400" cy="303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5691a"/>
                </a:solidFill>
                <a:latin typeface="Times New Roman"/>
                <a:ea typeface="Calibri"/>
              </a:rPr>
              <a:t>Вправа  «Хто як одягнений?»</a:t>
            </a:r>
            <a:endParaRPr b="0" lang="en-US" sz="2400" spc="-1" strike="noStrike">
              <a:solidFill>
                <a:srgbClr val="000000"/>
              </a:solidFill>
              <a:latin typeface="Trebuchet MS"/>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5691a"/>
                </a:solidFill>
                <a:latin typeface="Times New Roman"/>
                <a:ea typeface="Calibri"/>
              </a:rPr>
              <a:t>Ігрове завдання: уважно подивитися один на одного й описати одяг обраної вихователем дитини. Для зразка описую першу дитину (назва одягу, колір, які є деталі – ґудзики, застібки, кишені, чим прикрашені).</a:t>
            </a:r>
            <a:endParaRPr b="0" lang="en-US" sz="24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20:26:28Z</dcterms:created>
  <dc:creator>viktoriashpv</dc:creator>
  <dc:description/>
  <dc:language>en-US</dc:language>
  <cp:lastModifiedBy>viktoriashpv</cp:lastModifiedBy>
  <dcterms:modified xsi:type="dcterms:W3CDTF">2017-04-28T04:42:14Z</dcterms:modified>
  <cp:revision>13</cp:revision>
  <dc:subject/>
  <dc:title>Презентация PowerPoint</dc:title>
</cp:coreProperties>
</file>